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8B5-1758-41BF-A91F-AAF3D514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ED1-F52E-4A66-9EA0-3C1FB183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5EB-5A68-45A7-8481-C4298B33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D2A-D5DE-4315-9797-BFCC4067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31C-0A0C-46F1-A6A9-E2B4936E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C12-E792-4718-ABBC-36D6CF75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7DC-C4C2-4FD6-BFC5-BF4CACA3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AF0-CE74-47CD-BF87-B63A1E1C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4FB-1DBF-431B-96B2-B241A039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078-576C-4502-8743-4826F7D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83D-4955-49FC-AC36-D4293F8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3FA-DCE3-4376-ADEA-160630A3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9294-7FA2-4D8E-988F-919EBEFA59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TWOOD                               UPHALL  STATION                           WHITEVALE  1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2" descr="Titwood 1.jpg"/>
          <p:cNvPicPr/>
          <p:nvPr/>
        </p:nvPicPr>
        <p:blipFill>
          <a:blip r:embed="rId1"/>
          <a:stretch/>
        </p:blipFill>
        <p:spPr>
          <a:xfrm>
            <a:off x="415800" y="47628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Whitevale 175th.jpg"/>
          <p:cNvPicPr/>
          <p:nvPr/>
        </p:nvPicPr>
        <p:blipFill>
          <a:blip r:embed="rId2"/>
          <a:stretch/>
        </p:blipFill>
        <p:spPr>
          <a:xfrm>
            <a:off x="3728880" y="692280"/>
            <a:ext cx="1074960" cy="103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Uphall Station 1.JPG"/>
          <p:cNvPicPr/>
          <p:nvPr/>
        </p:nvPicPr>
        <p:blipFill>
          <a:blip r:embed="rId3"/>
          <a:stretch/>
        </p:blipFill>
        <p:spPr>
          <a:xfrm>
            <a:off x="2000160" y="620640"/>
            <a:ext cx="10796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8-24T14:43:43Z</dcterms:modified>
  <cp:revision>89</cp:revision>
  <dc:subject/>
  <dc:title>Slide 1</dc:title>
</cp:coreProperties>
</file>